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01F-A568-49E6-B215-EBC534B1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582-DAF7-4D73-BCD6-A0708C39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24F-38CE-44F7-96F4-EF189E3F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75C-49EA-45BC-A054-B2D0B060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23D-3849-406D-B8F1-7187CDF7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48B0-7C6C-407D-AD78-EE6D05DE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34C-38F8-4863-82CC-D71EC4FD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820-8161-49C3-99CC-660DB1C3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CA3-A71F-4471-BAD4-CFFC5F1C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832-BFBB-4C90-9AA1-CFA07ACB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3EC-C123-4804-8AFA-E80DB14A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F50-DD2E-4748-85AB-24C882EB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E860-695E-42BA-A624-CD5D06FA41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rims.co.uk/tudors/henry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724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4640"/>
            <a:ext cx="9144000" cy="2592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324000 h 2592720"/>
              <a:gd name="textAreaBottom" fmla="*/ 2593080 h 25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3b1155"/>
              </a:gs>
              <a:gs pos="50000">
                <a:srgbClr val="8226ba"/>
              </a:gs>
              <a:gs pos="100000">
                <a:srgbClr val="3b115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0360" y="1125360"/>
            <a:ext cx="3743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mic Sans MS"/>
              </a:rPr>
              <a:t>Who was Henry VIII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3716280"/>
            <a:ext cx="4032360" cy="2665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e8e6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80000" y="4365720"/>
            <a:ext cx="194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why did he have 6 w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3860640"/>
            <a:ext cx="2016000" cy="2232360"/>
          </a:xfrm>
          <a:custGeom>
            <a:avLst/>
            <a:gdLst>
              <a:gd name="textAreaLeft" fmla="*/ 830520 w 2016000"/>
              <a:gd name="textAreaRight" fmla="*/ 1185480 w 2016000"/>
              <a:gd name="textAreaTop" fmla="*/ 919800 h 2232360"/>
              <a:gd name="textAreaBottom" fmla="*/ 1312560 h 223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8f336"/>
              </a:gs>
              <a:gs pos="100000">
                <a:srgbClr val="727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04000" y="3860640"/>
            <a:ext cx="2016000" cy="2232360"/>
          </a:xfrm>
          <a:custGeom>
            <a:avLst/>
            <a:gdLst>
              <a:gd name="textAreaLeft" fmla="*/ 830520 w 2016000"/>
              <a:gd name="textAreaRight" fmla="*/ 1185480 w 2016000"/>
              <a:gd name="textAreaTop" fmla="*/ 919800 h 2232360"/>
              <a:gd name="textAreaBottom" fmla="*/ 1312560 h 223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8f336"/>
              </a:gs>
              <a:gs pos="100000">
                <a:srgbClr val="7270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fe Number 3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Jane Seym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345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fter getting rid of Anne, Henry married Jane Seymour in 1536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Jane finally gave Henry the son he so wanted – Edwar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Unfortunately, Edward died when he was just 16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Jane died after giving birth to Edwar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5373720"/>
            <a:ext cx="23763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51280" y="1628640"/>
            <a:ext cx="2814480" cy="4321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51280" y="59500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ne Seym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4508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d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093080" y="1773360"/>
            <a:ext cx="1819080" cy="2663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920" y="5661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Wife Number 4</a:t>
            </a:r>
            <a:br>
              <a:rPr sz="3600"/>
            </a:b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Anne of Cle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fter Jane died, Henry sent a painter, Holbein, to Germany in 1540 to paint a picture of Anne of Cle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thought she looked very pretty, but when he saw her he hated 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thought she was very ugly, and called her the “Flanders Mar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y had no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nry divorced An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661000"/>
            <a:ext cx="324036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00760" y="1600200"/>
            <a:ext cx="333216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219640" y="6165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ne of Cle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57340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fe Number 5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atherine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 came Catherine Ho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 married Henry in 15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had no children, mainly because she didn’t like Henry and had lots of other boyfrien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ry wasn’t very happy about this, and she was beheaded in 154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4797360"/>
            <a:ext cx="36003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2951280" cy="4464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92720" y="6093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therine Ho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5084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fe Number 6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atherine P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ry married his final wife in 154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 is supposed to have been very nice and kind, and Henry seems to have been quite happy with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had no children, but stayed marr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herine Parr outlived Henry – he died in 1547, while she lived until 15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4797360"/>
            <a:ext cx="3745080" cy="1081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88000" y="1844640"/>
            <a:ext cx="4038480" cy="345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435640" y="5516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therine Pa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king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 wive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ree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76720" y="2205000"/>
            <a:ext cx="4967280" cy="3672000"/>
          </a:xfrm>
          <a:prstGeom prst="irregularSeal1">
            <a:avLst/>
          </a:prstGeom>
          <a:gradFill rotWithShape="0">
            <a:gsLst>
              <a:gs pos="0">
                <a:srgbClr val="580c26"/>
              </a:gs>
              <a:gs pos="50000">
                <a:srgbClr val="c01c53"/>
              </a:gs>
              <a:gs pos="100000">
                <a:srgbClr val="580c2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3031920" cy="4135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508720" y="36450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u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udors were a royal family who ruled England from 1485 until 16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rst Tudor king  was called Henry V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fought another king, Richard III, at the Battle of Bosworth in 1485.  Richard was killed, Henry became king, and a new period of history be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68720" y="1600200"/>
            <a:ext cx="3048120" cy="4060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03640" y="580536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nry 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Tu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the Tudor family tree.  It shows when people were born, when they died, who they married and how many children they h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1989000"/>
          <a:ext cx="896472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9000"/>
                    <a:ext cx="896472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nry V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ry VIII was king of England from 1509 until 154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was born in 1491, and was only 17 years and 10 months old when he became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ry composed music, which we can listen to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www.brims.co.uk/tudors/henry.html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91120" y="1600200"/>
            <a:ext cx="315288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64000" y="6165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nry 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description of Henry, by an Italian called Giusti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nch Script MT"/>
              </a:rPr>
              <a:t>His majesty is twenty-nine years old, and extremely handsome.  Nature could not have done more for him.  He is much handsomer than any other sovereign in Christendom; a great deal handsomer then the King of France; very fair, and his whole frame admirably proportioned.  On hearing that Francis I (the King of France) wore a beard, he allowed his own to grow; and as it is reddish, he has now got a beard that looks like gold.  He is very accomplished; a good musician; composes well; is a most capital horseman; a fine jouster; speaks good French, Latin and Spanish; is very religious; hears three masses daily when he hunts, and sometimes five on other days.  He is very fond of hunting, and never takes his diversion without tiring 8 or 10 horses.  He is extremely fond of tennis, at which game it is the prettiest thing in the world to see him play, his fair skin glowing through a shirt of the finest tex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gain at this picture of Henry.  How would you describe him now? Is he still young and hands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95560" y="1600200"/>
            <a:ext cx="315288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4360" y="2060640"/>
            <a:ext cx="1655640" cy="863640"/>
          </a:xfrm>
          <a:prstGeom prst="wedgeRoundRectCallout">
            <a:avLst>
              <a:gd name="adj1" fmla="val -79722"/>
              <a:gd name="adj2" fmla="val 568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ld do you think he i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1413000"/>
            <a:ext cx="1728720" cy="863640"/>
          </a:xfrm>
          <a:prstGeom prst="wedgeRoundRectCallout">
            <a:avLst>
              <a:gd name="adj1" fmla="val 71212"/>
              <a:gd name="adj2" fmla="val 911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the expression on his 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3213000"/>
            <a:ext cx="2232000" cy="1008000"/>
          </a:xfrm>
          <a:prstGeom prst="wedgeRoundRectCallout">
            <a:avLst>
              <a:gd name="adj1" fmla="val -60453"/>
              <a:gd name="adj2" fmla="val 737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can you tell he is an important pers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4941720"/>
            <a:ext cx="1873080" cy="935280"/>
          </a:xfrm>
          <a:prstGeom prst="wedgeRoundRectCallout">
            <a:avLst>
              <a:gd name="adj1" fmla="val -62287"/>
              <a:gd name="adj2" fmla="val 10262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sort of clothes is he wear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000" y="2924280"/>
            <a:ext cx="2160720" cy="1081080"/>
          </a:xfrm>
          <a:prstGeom prst="wedgeRoundRectCallout">
            <a:avLst>
              <a:gd name="adj1" fmla="val 49120"/>
              <a:gd name="adj2" fmla="val 940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Henry trying to tell us about himself in this portra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77080" y="4653000"/>
            <a:ext cx="1871640" cy="1440000"/>
          </a:xfrm>
          <a:prstGeom prst="wedgeRoundRectCallout">
            <a:avLst>
              <a:gd name="adj1" fmla="val 53222"/>
              <a:gd name="adj2" fmla="val 8020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think that Henry really looked like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nry and his w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and, the crown is passed from the parent to the child when the parent dies.  Henry was desperate to have a son to pass the crown on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order to have children, Henry had to find himself a wife.  But he married not once, not twice, but SIX time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of these wives died, some he divorced, some he had killed and one survived him.  Let’s have a look at these wives in more de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ife Number 1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atherine of Arag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316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ry married Catherine of Aragon in 15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herine was a Spanish prin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had one daughter, Mary, who later became Queen of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ry divorced Cathe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20000" y="2276640"/>
            <a:ext cx="1842840" cy="2663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308720" y="508464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492360" y="1700280"/>
            <a:ext cx="3043440" cy="417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36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therine of Ar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5157720"/>
            <a:ext cx="23050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530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ife Number 2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nne Boley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36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Henry fell for Anne Boley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ry and Anne were married in 1533 in secret – because Henry hadn’t got rid of his first wife y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had a daughter, Elizabeth, who also later became a Queen of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nry had Anne behe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445000"/>
            <a:ext cx="25192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3085920" cy="4032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211640" y="587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ne Bole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236000" y="2205000"/>
            <a:ext cx="1734840" cy="2087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451640" y="43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55897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22:48:54Z</dcterms:created>
  <dc:creator> </dc:creator>
  <dc:description/>
  <dc:language>en-US</dc:language>
  <cp:lastModifiedBy>shoyer</cp:lastModifiedBy>
  <dcterms:modified xsi:type="dcterms:W3CDTF">2008-09-25T13:22:13Z</dcterms:modified>
  <cp:revision>18</cp:revision>
  <dc:subject/>
  <dc:title>Who was Henry VIII?</dc:title>
</cp:coreProperties>
</file>